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77075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77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008240" y="0"/>
            <a:ext cx="3066840" cy="471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4040" y="706320"/>
            <a:ext cx="470844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6720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008240" y="8945280"/>
            <a:ext cx="3066840" cy="471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073-A06E-4F8F-B0B7-97E399BD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5E4D-030F-461F-A8E9-1B3705630D40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72E1-35A4-4BE0-B449-A8F975EFF70F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03FE-F668-4584-9618-AF989A2E1374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03B9-CC28-4CB2-8320-95C16D1DD42D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4400" y="706320"/>
            <a:ext cx="4708440" cy="3532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7760" y="4475160"/>
            <a:ext cx="566100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008600" y="8945640"/>
            <a:ext cx="306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09D9-B625-448A-9341-4FA7F6290D1F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512-CD7F-4A7C-81B5-B914665E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18E-627E-4544-B29E-86FC2DC8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A9D-E015-4EFC-B540-C31241E0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926-C707-4E43-945D-9C6458A7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D78B-1C82-4DA4-AAC2-9FFEFAF1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C85-EA1E-4259-A4AF-6178540C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C5F9-FAA4-41F1-BF48-C63EC608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49C9-4E07-4E7E-91FD-DFCD096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4DA8-4C64-4C5B-AEA4-75BBBB8F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825E-729E-4884-98A5-43ABD220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9545-B815-4F0B-96AB-64211FC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ACD-AAAB-4F77-9631-39527A00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01B8-CC57-49E2-B803-FB170F8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CAD9-72F3-4D9C-9061-B351F39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3202-1910-4D12-826A-65E08360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E91F-5B1F-4697-B144-C96E775F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22AB-B70C-43BB-A650-25906215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333-0F2A-4D46-A4D2-8658005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8C8-7B24-476C-B5E5-5B3933B1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F37-AD02-4BB1-ACFB-BAE75F12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1DD-7B10-4312-9322-31CADDE8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B7A-E545-4F16-B249-ECC47E8D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B9C-24DD-4462-B28C-BABFFBC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160-20C4-4216-A50C-1C2209E7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669D-9BE3-4B66-B328-8CE3F6890A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2888-BCCE-4971-9D0F-952A598F94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2666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put Prediction Logic (OPL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CE632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" y="5562720"/>
            <a:ext cx="548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ukasz Szafaryn and Blake Sherida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04 Dec 07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ffects of Vari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57200" y="1447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ce primarily affects the pull-up and pull-down of outputs shortly after CLK goes high (eval)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NMOS causes an output’s fall to zero to take too long, resulting in a loss of speed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PMOS results in a slower pull up, though the effect is less pronounc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ffects of Vari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2" name="Picture 2" descr="C:\Users\Gracjan\Desktop\cl_adder_1bit_B_OPL\snapshot2glitch.png"/>
          <p:cNvPicPr/>
          <p:nvPr/>
        </p:nvPicPr>
        <p:blipFill>
          <a:blip r:embed="rId1"/>
          <a:srcRect l="38645" t="60584" r="26028" b="24423"/>
          <a:stretch/>
        </p:blipFill>
        <p:spPr>
          <a:xfrm>
            <a:off x="304920" y="914400"/>
            <a:ext cx="4267080" cy="144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Gracjan\Desktop\cl_adder_1bit_B_OPL\snapshot2glitchSmall.png"/>
          <p:cNvPicPr/>
          <p:nvPr/>
        </p:nvPicPr>
        <p:blipFill>
          <a:blip r:embed="rId2"/>
          <a:srcRect l="40225" t="78227" r="27974" b="5900"/>
          <a:stretch/>
        </p:blipFill>
        <p:spPr>
          <a:xfrm>
            <a:off x="304920" y="2590920"/>
            <a:ext cx="426708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Gracjan\Desktop\cl_adder_1bit_B_OPL\snapshot2glitchBig.png"/>
          <p:cNvPicPr/>
          <p:nvPr/>
        </p:nvPicPr>
        <p:blipFill>
          <a:blip r:embed="rId3"/>
          <a:srcRect l="35927" t="60584" r="30749" b="23539"/>
          <a:stretch/>
        </p:blipFill>
        <p:spPr>
          <a:xfrm>
            <a:off x="304920" y="4191120"/>
            <a:ext cx="426708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9"/>
          <p:cNvSpPr/>
          <p:nvPr/>
        </p:nvSpPr>
        <p:spPr>
          <a:xfrm>
            <a:off x="4724280" y="14479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variance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724280" y="46483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nm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724280" y="3048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pmos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7200" y="144792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 is an interesting concept and an addition to traditional static logi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 can be applied to digital circuits to improve their speed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OPL to complex circuits is challenging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variation has a small effect on OPL performance – non-ideal transistors will slow down the circui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57200" y="9907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Murchie, L., Kio, S., Yee, G., Thorp, T., &amp; Sechen, C. (2000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put Prediction Logic: a High-Performance CMOS Desig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attle: 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n, S., McMurchie, L., &amp; Sechen, C. (2001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 64-bit Adder Implemented in Output Predi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ttle: 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Nish, R. , &amp; Nalam, S. (2003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 Performance Lo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wer 64 bit OPL-Static Ad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attle: Universit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4]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n, Y., McMurchie, L., &amp; Sechen, C. (2005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i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formance CMOS Programmable Logic Cor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tt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MCj04077340000[1]"/>
          <p:cNvPicPr/>
          <p:nvPr/>
        </p:nvPicPr>
        <p:blipFill>
          <a:blip r:embed="rId1"/>
          <a:stretch/>
        </p:blipFill>
        <p:spPr>
          <a:xfrm>
            <a:off x="2971800" y="1143000"/>
            <a:ext cx="297504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Goal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ogic Family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PL Work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bit CLA Adder with OP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Variation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ject Goa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ize ourselves with OP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a high-speed adder using OPL 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methodologies for designing OPL circuits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-91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he effects of process variation on the adder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1378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ew Logic Famil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105520" y="2743200"/>
            <a:ext cx="266688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209680" y="4800600"/>
            <a:ext cx="266724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rediction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H="1" flipV="1">
            <a:off x="2819160" y="3886200"/>
            <a:ext cx="22860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95280" y="2743200"/>
            <a:ext cx="26672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00400" y="990720"/>
            <a:ext cx="266688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2590560" y="2133720"/>
            <a:ext cx="1447560" cy="609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105520" y="2133720"/>
            <a:ext cx="1295280" cy="6094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038480" y="3886200"/>
            <a:ext cx="2438640" cy="9144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81760" cy="2352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How OPL 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886200" y="914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5627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3915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1" name="Straight Arrow Connector 8"/>
          <p:cNvCxnSpPr/>
          <p:nvPr/>
        </p:nvCxnSpPr>
        <p:spPr>
          <a:xfrm flipH="1">
            <a:off x="388548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TextBox 10"/>
          <p:cNvSpPr/>
          <p:nvPr/>
        </p:nvSpPr>
        <p:spPr>
          <a:xfrm>
            <a:off x="380880" y="9144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recharge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3" name="Straight Arrow Connector 12"/>
          <p:cNvCxnSpPr/>
          <p:nvPr/>
        </p:nvCxnSpPr>
        <p:spPr>
          <a:xfrm flipH="1">
            <a:off x="556200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4" name="Straight Arrow Connector 13"/>
          <p:cNvCxnSpPr/>
          <p:nvPr/>
        </p:nvCxnSpPr>
        <p:spPr>
          <a:xfrm flipH="1">
            <a:off x="7390800" y="1447920"/>
            <a:ext cx="229320" cy="83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" name="TextBox 14"/>
          <p:cNvSpPr/>
          <p:nvPr/>
        </p:nvSpPr>
        <p:spPr>
          <a:xfrm>
            <a:off x="533520" y="1600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6" name="Straight Arrow Connector 15"/>
          <p:cNvCxnSpPr/>
          <p:nvPr/>
        </p:nvCxnSpPr>
        <p:spPr>
          <a:xfrm>
            <a:off x="1066680" y="2057040"/>
            <a:ext cx="6105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10"/>
          <p:cNvSpPr/>
          <p:nvPr/>
        </p:nvSpPr>
        <p:spPr>
          <a:xfrm>
            <a:off x="380880" y="4267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valuate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457200" y="3657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19" name="Straight Arrow Connector 18"/>
          <p:cNvCxnSpPr/>
          <p:nvPr/>
        </p:nvCxnSpPr>
        <p:spPr>
          <a:xfrm flipV="1">
            <a:off x="1065600" y="2894760"/>
            <a:ext cx="762840" cy="839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0" name="TextBox 4"/>
          <p:cNvSpPr/>
          <p:nvPr/>
        </p:nvSpPr>
        <p:spPr>
          <a:xfrm>
            <a:off x="3276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48769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23" name="Straight Arrow Connector 8"/>
          <p:cNvCxnSpPr/>
          <p:nvPr/>
        </p:nvCxnSpPr>
        <p:spPr>
          <a:xfrm flipV="1">
            <a:off x="3351600" y="3047760"/>
            <a:ext cx="229320" cy="121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" name="TextBox 10"/>
          <p:cNvSpPr/>
          <p:nvPr/>
        </p:nvSpPr>
        <p:spPr>
          <a:xfrm>
            <a:off x="32767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25" name="Straight Arrow Connector 12"/>
          <p:cNvCxnSpPr/>
          <p:nvPr/>
        </p:nvCxnSpPr>
        <p:spPr>
          <a:xfrm flipV="1">
            <a:off x="5180400" y="3047400"/>
            <a:ext cx="22932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Straight Arrow Connector 13"/>
          <p:cNvCxnSpPr/>
          <p:nvPr/>
        </p:nvCxnSpPr>
        <p:spPr>
          <a:xfrm flipV="1">
            <a:off x="7161840" y="3123360"/>
            <a:ext cx="229320" cy="1220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TextBox 14"/>
          <p:cNvSpPr/>
          <p:nvPr/>
        </p:nvSpPr>
        <p:spPr>
          <a:xfrm>
            <a:off x="69343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2819520" y="4343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6553080" y="4343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ock Synchron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51055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ion in each stage is triggered by clock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36496" t="51783" r="35790" b="34346"/>
          <a:stretch/>
        </p:blipFill>
        <p:spPr>
          <a:xfrm>
            <a:off x="1523880" y="914400"/>
            <a:ext cx="5562720" cy="173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rcRect l="17657" t="13086" r="55370" b="62253"/>
          <a:stretch/>
        </p:blipFill>
        <p:spPr>
          <a:xfrm>
            <a:off x="1066680" y="2971800"/>
            <a:ext cx="333396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/>
          <a:srcRect l="16887" t="62423" r="56140" b="12921"/>
          <a:stretch/>
        </p:blipFill>
        <p:spPr>
          <a:xfrm>
            <a:off x="5029200" y="297180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16-bit CLA Ad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2" descr="C:\Users\Gracjan\Desktop\16bit_adder.jpg"/>
          <p:cNvPicPr/>
          <p:nvPr/>
        </p:nvPicPr>
        <p:blipFill>
          <a:blip r:embed="rId1"/>
          <a:stretch/>
        </p:blipFill>
        <p:spPr>
          <a:xfrm>
            <a:off x="4419720" y="762120"/>
            <a:ext cx="4419360" cy="3562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Gracjan\Desktop\4bit_adder.jpg"/>
          <p:cNvPicPr/>
          <p:nvPr/>
        </p:nvPicPr>
        <p:blipFill>
          <a:blip r:embed="rId2"/>
          <a:srcRect l="18421" t="14084" r="15789" b="10814"/>
          <a:stretch/>
        </p:blipFill>
        <p:spPr>
          <a:xfrm>
            <a:off x="304920" y="2438280"/>
            <a:ext cx="3892320" cy="358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Gracjan\Desktop\1_cl_adder.jpg"/>
          <p:cNvPicPr/>
          <p:nvPr/>
        </p:nvPicPr>
        <p:blipFill>
          <a:blip r:embed="rId3"/>
          <a:srcRect l="13158" t="29321" r="9652" b="26055"/>
          <a:stretch/>
        </p:blipFill>
        <p:spPr>
          <a:xfrm>
            <a:off x="380880" y="762120"/>
            <a:ext cx="3124440" cy="1455480"/>
          </a:xfrm>
          <a:prstGeom prst="rect">
            <a:avLst/>
          </a:prstGeom>
          <a:ln w="0">
            <a:noFill/>
          </a:ln>
        </p:spPr>
      </p:pic>
      <p:sp>
        <p:nvSpPr>
          <p:cNvPr id="139" name="Right Arrow 51"/>
          <p:cNvSpPr/>
          <p:nvPr/>
        </p:nvSpPr>
        <p:spPr>
          <a:xfrm rot="3220200">
            <a:off x="392040" y="2562120"/>
            <a:ext cx="1447560" cy="380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206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Right Arrow 52"/>
          <p:cNvSpPr/>
          <p:nvPr/>
        </p:nvSpPr>
        <p:spPr>
          <a:xfrm rot="18763200">
            <a:off x="4027320" y="2352960"/>
            <a:ext cx="1133280" cy="2761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206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Rounded Rectangle 53"/>
          <p:cNvSpPr/>
          <p:nvPr/>
        </p:nvSpPr>
        <p:spPr>
          <a:xfrm>
            <a:off x="1371600" y="342900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002060">
              <a:alpha val="2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2" name="Rounded Rectangle 54"/>
          <p:cNvSpPr/>
          <p:nvPr/>
        </p:nvSpPr>
        <p:spPr>
          <a:xfrm>
            <a:off x="5029200" y="1523880"/>
            <a:ext cx="914400" cy="685800"/>
          </a:xfrm>
          <a:prstGeom prst="roundRect">
            <a:avLst>
              <a:gd name="adj" fmla="val 16667"/>
            </a:avLst>
          </a:prstGeom>
          <a:solidFill>
            <a:srgbClr val="002060">
              <a:alpha val="2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4-bit CLA Adde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Picture 2" descr="C:\Users\Gracjan\Desktop\cl_adder_1bit_B\snapshot1.png"/>
          <p:cNvPicPr/>
          <p:nvPr/>
        </p:nvPicPr>
        <p:blipFill>
          <a:blip r:embed="rId1"/>
          <a:srcRect l="2252" t="77401" r="4056" b="0"/>
          <a:stretch/>
        </p:blipFill>
        <p:spPr>
          <a:xfrm>
            <a:off x="609480" y="762120"/>
            <a:ext cx="7925040" cy="12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Users\Gracjan\Desktop\cl_adder_1bit_B_OPL\snapshot1.png"/>
          <p:cNvPicPr/>
          <p:nvPr/>
        </p:nvPicPr>
        <p:blipFill>
          <a:blip r:embed="rId2"/>
          <a:srcRect l="0" t="60584" r="0" b="0"/>
          <a:stretch/>
        </p:blipFill>
        <p:spPr>
          <a:xfrm>
            <a:off x="533520" y="2133720"/>
            <a:ext cx="8153280" cy="2133360"/>
          </a:xfrm>
          <a:prstGeom prst="rect">
            <a:avLst/>
          </a:prstGeom>
          <a:ln w="0">
            <a:noFill/>
          </a:ln>
        </p:spPr>
      </p:pic>
      <p:sp>
        <p:nvSpPr>
          <p:cNvPr id="146" name="Oval 9"/>
          <p:cNvSpPr/>
          <p:nvPr/>
        </p:nvSpPr>
        <p:spPr>
          <a:xfrm>
            <a:off x="2133720" y="762120"/>
            <a:ext cx="761760" cy="266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3581280" y="762120"/>
            <a:ext cx="762120" cy="2666880"/>
          </a:xfrm>
          <a:prstGeom prst="ellipse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8" name="Picture 6" descr="C:\Users\Gracjan\Desktop\cl_adder_1bit_B_OPL\snapshot1glitch.png"/>
          <p:cNvPicPr/>
          <p:nvPr/>
        </p:nvPicPr>
        <p:blipFill>
          <a:blip r:embed="rId3"/>
          <a:srcRect l="40538" t="60584" r="29813" b="23539"/>
          <a:stretch/>
        </p:blipFill>
        <p:spPr>
          <a:xfrm>
            <a:off x="533520" y="5257800"/>
            <a:ext cx="2286000" cy="87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Users\Gracjan\Desktop\cl_adder_1bit_B_OPL\snapshot2glitch.png"/>
          <p:cNvPicPr/>
          <p:nvPr/>
        </p:nvPicPr>
        <p:blipFill>
          <a:blip r:embed="rId4"/>
          <a:srcRect l="45086" t="60584" r="29014" b="23539"/>
          <a:stretch/>
        </p:blipFill>
        <p:spPr>
          <a:xfrm>
            <a:off x="3124080" y="5257800"/>
            <a:ext cx="2057400" cy="90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:\Users\Gracjan\Desktop\cl_adder_1bit_B\snapshot2.png"/>
          <p:cNvPicPr/>
          <p:nvPr/>
        </p:nvPicPr>
        <p:blipFill>
          <a:blip r:embed="rId5"/>
          <a:srcRect l="27342" t="77401" r="32884" b="8905"/>
          <a:stretch/>
        </p:blipFill>
        <p:spPr>
          <a:xfrm>
            <a:off x="533520" y="4343400"/>
            <a:ext cx="228600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Users\Gracjan\Desktop\cl_adder_1bit_B\snapshot2glitch.png"/>
          <p:cNvPicPr/>
          <p:nvPr/>
        </p:nvPicPr>
        <p:blipFill>
          <a:blip r:embed="rId6"/>
          <a:srcRect l="29044" t="78227" r="47367" b="5900"/>
          <a:stretch/>
        </p:blipFill>
        <p:spPr>
          <a:xfrm>
            <a:off x="3124080" y="4343400"/>
            <a:ext cx="2057400" cy="866880"/>
          </a:xfrm>
          <a:prstGeom prst="rect">
            <a:avLst/>
          </a:prstGeom>
          <a:ln w="0">
            <a:noFill/>
          </a:ln>
        </p:spPr>
      </p:pic>
      <p:cxnSp>
        <p:nvCxnSpPr>
          <p:cNvPr id="152" name="Straight Arrow Connector 17"/>
          <p:cNvCxnSpPr>
            <a:stCxn id="146" idx="4"/>
          </p:cNvCxnSpPr>
          <p:nvPr/>
        </p:nvCxnSpPr>
        <p:spPr>
          <a:xfrm flipH="1">
            <a:off x="1676160" y="3429000"/>
            <a:ext cx="838800" cy="9151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3" name="Straight Arrow Connector 18"/>
          <p:cNvCxnSpPr/>
          <p:nvPr/>
        </p:nvCxnSpPr>
        <p:spPr>
          <a:xfrm>
            <a:off x="3961440" y="3429000"/>
            <a:ext cx="191160" cy="9151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54" name="TextBox 20"/>
          <p:cNvSpPr/>
          <p:nvPr/>
        </p:nvSpPr>
        <p:spPr>
          <a:xfrm>
            <a:off x="6172200" y="4724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w/o OP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w OPL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 flipH="1" flipV="1">
            <a:off x="5181120" y="4776480"/>
            <a:ext cx="991440" cy="10080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156" name="Straight Arrow Connector 23"/>
          <p:cNvCxnSpPr/>
          <p:nvPr/>
        </p:nvCxnSpPr>
        <p:spPr>
          <a:xfrm flipH="1">
            <a:off x="5181120" y="5509080"/>
            <a:ext cx="991440" cy="19908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</p:cxn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L Adder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990720"/>
            <a:ext cx="8381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 is very paralleliz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clock stage we saved about 0.5n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time for addition is input dependen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ested several combinations of inputs including the two which we deemed to be the best case and worst cas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 0000 0000 0000 + 0000 0000 0000 000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speedup of 1.2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 0000 0000 0001 + 1111 1111 1111 111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speedup of 1.125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1:38:55Z</dcterms:created>
  <dc:creator>⹅⹮⹧⹩⹮⹥⹥⹲⹩⹮⹧⹓⹴⹵⹤⹥⹮⹴ްएøˊÈ</dc:creator>
  <dc:description/>
  <cp:keywords/>
  <dc:language>en-US</dc:language>
  <cp:lastModifiedBy>Gracjan</cp:lastModifiedBy>
  <dcterms:modified xsi:type="dcterms:W3CDTF">2007-12-06T02:25:08Z</dcterms:modified>
  <cp:revision>143</cp:revision>
  <dc:subject/>
  <dc:title>EE625 Information Theory and Co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